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46E5E-F7A4-4385-A48A-E909E2AF869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F8A25-CE99-410F-8012-9C7BC47D172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61955-B4C5-4E66-8291-2AD8F39B2A5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461E1-F24C-4AA5-A3BF-824B96B10C7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A9B50-715F-44F6-82C4-D744EE6971B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19F5A-741A-46C6-B83E-766EE6EDF4A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332B1-E88E-4DBE-9187-6581326C402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3EF9D-B329-45F8-9E9A-04D6D6D2020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AE055-BB0B-40F6-9A24-FAA9897BE18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61FB1-24B3-47E3-82E8-C2DA9301C07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85800" y="2329560"/>
            <a:ext cx="77724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232956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668480" y="232956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85800" y="2329560"/>
            <a:ext cx="250236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313800" y="2329560"/>
            <a:ext cx="250236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5941440" y="2329560"/>
            <a:ext cx="250236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232956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668480" y="232956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2329560"/>
            <a:ext cx="77724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4000"/>
          </a:bodyPr>
          <a:p>
            <a:pPr marL="47880" indent="-47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680" indent="-39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59840" indent="-3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223920" indent="-316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88000" indent="-316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88000" indent="-316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88000" indent="-316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21"/>
          <p:cNvGrpSpPr/>
          <p:nvPr/>
        </p:nvGrpSpPr>
        <p:grpSpPr>
          <a:xfrm>
            <a:off x="163440" y="4591080"/>
            <a:ext cx="4210200" cy="603360"/>
            <a:chOff x="163440" y="4591080"/>
            <a:chExt cx="4210200" cy="603360"/>
          </a:xfrm>
        </p:grpSpPr>
        <p:sp>
          <p:nvSpPr>
            <p:cNvPr id="3" name="AutoShape 22"/>
            <p:cNvSpPr/>
            <p:nvPr/>
          </p:nvSpPr>
          <p:spPr>
            <a:xfrm>
              <a:off x="163440" y="4591080"/>
              <a:ext cx="4210200" cy="603360"/>
            </a:xfrm>
            <a:prstGeom prst="bracePair">
              <a:avLst>
                <a:gd name="adj" fmla="val 25000"/>
              </a:avLst>
            </a:prstGeom>
            <a:noFill/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Line 23"/>
            <p:cNvSpPr/>
            <p:nvPr/>
          </p:nvSpPr>
          <p:spPr>
            <a:xfrm>
              <a:off x="461880" y="4591080"/>
              <a:ext cx="3606840" cy="0"/>
            </a:xfrm>
            <a:prstGeom prst="line">
              <a:avLst/>
            </a:prstGeom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Line 24"/>
            <p:cNvSpPr/>
            <p:nvPr/>
          </p:nvSpPr>
          <p:spPr>
            <a:xfrm>
              <a:off x="461880" y="5194440"/>
              <a:ext cx="3606840" cy="0"/>
            </a:xfrm>
            <a:prstGeom prst="line">
              <a:avLst/>
            </a:prstGeom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" name="Group 25"/>
          <p:cNvGrpSpPr/>
          <p:nvPr/>
        </p:nvGrpSpPr>
        <p:grpSpPr>
          <a:xfrm>
            <a:off x="4830840" y="4591080"/>
            <a:ext cx="4209840" cy="603360"/>
            <a:chOff x="4830840" y="4591080"/>
            <a:chExt cx="4209840" cy="603360"/>
          </a:xfrm>
        </p:grpSpPr>
        <p:sp>
          <p:nvSpPr>
            <p:cNvPr id="7" name="AutoShape 26"/>
            <p:cNvSpPr/>
            <p:nvPr/>
          </p:nvSpPr>
          <p:spPr>
            <a:xfrm>
              <a:off x="4830840" y="4591080"/>
              <a:ext cx="4209840" cy="603360"/>
            </a:xfrm>
            <a:prstGeom prst="bracePair">
              <a:avLst>
                <a:gd name="adj" fmla="val 25000"/>
              </a:avLst>
            </a:prstGeom>
            <a:noFill/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Line 27"/>
            <p:cNvSpPr/>
            <p:nvPr/>
          </p:nvSpPr>
          <p:spPr>
            <a:xfrm>
              <a:off x="5128920" y="4591080"/>
              <a:ext cx="3606480" cy="0"/>
            </a:xfrm>
            <a:prstGeom prst="line">
              <a:avLst/>
            </a:prstGeom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Line 28"/>
            <p:cNvSpPr/>
            <p:nvPr/>
          </p:nvSpPr>
          <p:spPr>
            <a:xfrm>
              <a:off x="5128920" y="5194440"/>
              <a:ext cx="3606480" cy="0"/>
            </a:xfrm>
            <a:prstGeom prst="line">
              <a:avLst/>
            </a:prstGeom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" name="Group 29"/>
          <p:cNvGrpSpPr/>
          <p:nvPr/>
        </p:nvGrpSpPr>
        <p:grpSpPr>
          <a:xfrm>
            <a:off x="182520" y="5499000"/>
            <a:ext cx="4210200" cy="603360"/>
            <a:chOff x="182520" y="5499000"/>
            <a:chExt cx="4210200" cy="603360"/>
          </a:xfrm>
        </p:grpSpPr>
        <p:sp>
          <p:nvSpPr>
            <p:cNvPr id="11" name="AutoShape 30"/>
            <p:cNvSpPr/>
            <p:nvPr/>
          </p:nvSpPr>
          <p:spPr>
            <a:xfrm>
              <a:off x="182520" y="5499000"/>
              <a:ext cx="4210200" cy="603360"/>
            </a:xfrm>
            <a:prstGeom prst="bracePair">
              <a:avLst>
                <a:gd name="adj" fmla="val 25000"/>
              </a:avLst>
            </a:prstGeom>
            <a:noFill/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Line 31"/>
            <p:cNvSpPr/>
            <p:nvPr/>
          </p:nvSpPr>
          <p:spPr>
            <a:xfrm>
              <a:off x="480960" y="5499000"/>
              <a:ext cx="3606840" cy="0"/>
            </a:xfrm>
            <a:prstGeom prst="line">
              <a:avLst/>
            </a:prstGeom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Line 32"/>
            <p:cNvSpPr/>
            <p:nvPr/>
          </p:nvSpPr>
          <p:spPr>
            <a:xfrm>
              <a:off x="480960" y="6102360"/>
              <a:ext cx="3606840" cy="0"/>
            </a:xfrm>
            <a:prstGeom prst="line">
              <a:avLst/>
            </a:prstGeom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" name="Group 33"/>
          <p:cNvGrpSpPr/>
          <p:nvPr/>
        </p:nvGrpSpPr>
        <p:grpSpPr>
          <a:xfrm>
            <a:off x="4830840" y="5499000"/>
            <a:ext cx="4209840" cy="603360"/>
            <a:chOff x="4830840" y="5499000"/>
            <a:chExt cx="4209840" cy="603360"/>
          </a:xfrm>
        </p:grpSpPr>
        <p:sp>
          <p:nvSpPr>
            <p:cNvPr id="15" name="AutoShape 34"/>
            <p:cNvSpPr/>
            <p:nvPr/>
          </p:nvSpPr>
          <p:spPr>
            <a:xfrm>
              <a:off x="4830840" y="5499000"/>
              <a:ext cx="4209840" cy="603360"/>
            </a:xfrm>
            <a:prstGeom prst="bracePair">
              <a:avLst>
                <a:gd name="adj" fmla="val 25000"/>
              </a:avLst>
            </a:prstGeom>
            <a:noFill/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Line 35"/>
            <p:cNvSpPr/>
            <p:nvPr/>
          </p:nvSpPr>
          <p:spPr>
            <a:xfrm>
              <a:off x="5128920" y="5499000"/>
              <a:ext cx="3606480" cy="0"/>
            </a:xfrm>
            <a:prstGeom prst="line">
              <a:avLst/>
            </a:prstGeom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Line 36"/>
            <p:cNvSpPr/>
            <p:nvPr/>
          </p:nvSpPr>
          <p:spPr>
            <a:xfrm>
              <a:off x="5128920" y="6102360"/>
              <a:ext cx="3606480" cy="0"/>
            </a:xfrm>
            <a:prstGeom prst="line">
              <a:avLst/>
            </a:prstGeom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" name="AutoShape 37"/>
          <p:cNvSpPr/>
          <p:nvPr/>
        </p:nvSpPr>
        <p:spPr>
          <a:xfrm>
            <a:off x="334800" y="3143160"/>
            <a:ext cx="8401320" cy="809640"/>
          </a:xfrm>
          <a:prstGeom prst="bracePair">
            <a:avLst>
              <a:gd name="adj" fmla="val 25000"/>
            </a:avLst>
          </a:prstGeom>
          <a:noFill/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Line 38"/>
          <p:cNvSpPr/>
          <p:nvPr/>
        </p:nvSpPr>
        <p:spPr>
          <a:xfrm>
            <a:off x="739800" y="3143160"/>
            <a:ext cx="765504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Line 39"/>
          <p:cNvSpPr/>
          <p:nvPr/>
        </p:nvSpPr>
        <p:spPr>
          <a:xfrm>
            <a:off x="739800" y="3946680"/>
            <a:ext cx="765504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Line 40"/>
          <p:cNvSpPr/>
          <p:nvPr/>
        </p:nvSpPr>
        <p:spPr>
          <a:xfrm>
            <a:off x="8702640" y="3552840"/>
            <a:ext cx="47160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Line 41"/>
          <p:cNvSpPr/>
          <p:nvPr/>
        </p:nvSpPr>
        <p:spPr>
          <a:xfrm>
            <a:off x="30240" y="3552840"/>
            <a:ext cx="37152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Line 42"/>
          <p:cNvSpPr/>
          <p:nvPr/>
        </p:nvSpPr>
        <p:spPr>
          <a:xfrm>
            <a:off x="8983800" y="4890960"/>
            <a:ext cx="19044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Line 43"/>
          <p:cNvSpPr/>
          <p:nvPr/>
        </p:nvSpPr>
        <p:spPr>
          <a:xfrm>
            <a:off x="8983800" y="5800680"/>
            <a:ext cx="19044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Line 44"/>
          <p:cNvSpPr/>
          <p:nvPr/>
        </p:nvSpPr>
        <p:spPr>
          <a:xfrm>
            <a:off x="4340160" y="4890960"/>
            <a:ext cx="50976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Line 45"/>
          <p:cNvSpPr/>
          <p:nvPr/>
        </p:nvSpPr>
        <p:spPr>
          <a:xfrm>
            <a:off x="4363920" y="5800680"/>
            <a:ext cx="50976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Line 46"/>
          <p:cNvSpPr/>
          <p:nvPr/>
        </p:nvSpPr>
        <p:spPr>
          <a:xfrm>
            <a:off x="30240" y="4890960"/>
            <a:ext cx="17604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Line 47"/>
          <p:cNvSpPr/>
          <p:nvPr/>
        </p:nvSpPr>
        <p:spPr>
          <a:xfrm>
            <a:off x="30240" y="5800680"/>
            <a:ext cx="17604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Text Box 51"/>
          <p:cNvSpPr/>
          <p:nvPr/>
        </p:nvSpPr>
        <p:spPr>
          <a:xfrm>
            <a:off x="303120" y="4626000"/>
            <a:ext cx="66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Times New Roman"/>
              </a:rPr>
              <a:t>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Text Box 52"/>
          <p:cNvSpPr/>
          <p:nvPr/>
        </p:nvSpPr>
        <p:spPr>
          <a:xfrm>
            <a:off x="4963680" y="4626000"/>
            <a:ext cx="64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Times New Roman"/>
              </a:rPr>
              <a:t>B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Text Box 53"/>
          <p:cNvSpPr/>
          <p:nvPr/>
        </p:nvSpPr>
        <p:spPr>
          <a:xfrm>
            <a:off x="4951440" y="5540400"/>
            <a:ext cx="66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Times New Roman"/>
              </a:rPr>
              <a:t>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Text Box 54"/>
          <p:cNvSpPr/>
          <p:nvPr/>
        </p:nvSpPr>
        <p:spPr>
          <a:xfrm>
            <a:off x="302760" y="5540400"/>
            <a:ext cx="64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Times New Roman"/>
              </a:rPr>
              <a:t>C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" name="Picture 58" descr="tit_millonario"/>
          <p:cNvPicPr/>
          <p:nvPr/>
        </p:nvPicPr>
        <p:blipFill>
          <a:blip r:embed="rId2"/>
          <a:stretch/>
        </p:blipFill>
        <p:spPr>
          <a:xfrm>
            <a:off x="717480" y="612720"/>
            <a:ext cx="7693200" cy="196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919080" y="4635360"/>
            <a:ext cx="3111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925560" y="4635360"/>
            <a:ext cx="3111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925560" y="4635360"/>
            <a:ext cx="3111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754200" y="33051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861840" y="5614920"/>
            <a:ext cx="322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Tengo que pelar las patat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895320" y="4622760"/>
            <a:ext cx="314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engo lavar el co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5516640" y="4645080"/>
            <a:ext cx="325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Tengo arreglo el armar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5"/>
          <p:cNvSpPr/>
          <p:nvPr/>
        </p:nvSpPr>
        <p:spPr>
          <a:xfrm>
            <a:off x="5384880" y="5415120"/>
            <a:ext cx="343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Tengo que preparar la comi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8"/>
          <p:cNvSpPr/>
          <p:nvPr/>
        </p:nvSpPr>
        <p:spPr>
          <a:xfrm>
            <a:off x="652320" y="3295800"/>
            <a:ext cx="62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¿I have to peel the potato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7"/>
          <p:cNvSpPr/>
          <p:nvPr/>
        </p:nvSpPr>
        <p:spPr>
          <a:xfrm>
            <a:off x="754200" y="33051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887400" y="4626000"/>
            <a:ext cx="11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5521320" y="4616280"/>
            <a:ext cx="104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5523120" y="5540400"/>
            <a:ext cx="102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879840" y="5532480"/>
            <a:ext cx="102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652320" y="3295800"/>
            <a:ext cx="643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¿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ómo se dice “I eat” en españo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7"/>
          <p:cNvSpPr/>
          <p:nvPr/>
        </p:nvSpPr>
        <p:spPr>
          <a:xfrm>
            <a:off x="754200" y="33051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888120" y="4626000"/>
            <a:ext cx="26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ives a North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862200" y="554040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ivo en North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5437080" y="5532480"/>
            <a:ext cx="321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ives en North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4"/>
          <p:cNvSpPr/>
          <p:nvPr/>
        </p:nvSpPr>
        <p:spPr>
          <a:xfrm>
            <a:off x="5468040" y="4633920"/>
            <a:ext cx="264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ive en North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7"/>
          <p:cNvSpPr/>
          <p:nvPr/>
        </p:nvSpPr>
        <p:spPr>
          <a:xfrm>
            <a:off x="652320" y="329580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¿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ómo se dice “he lives in Northam” en españo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8"/>
          <p:cNvSpPr/>
          <p:nvPr/>
        </p:nvSpPr>
        <p:spPr>
          <a:xfrm>
            <a:off x="892440" y="4664160"/>
            <a:ext cx="3278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Times New Roman"/>
              </a:rPr>
              <a:t>A mi pueblo hay tienda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860400" y="55404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5521320" y="55404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5526360" y="4684680"/>
            <a:ext cx="3499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En mi ciudad hay un estadi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861840" y="55483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5566320" y="5532480"/>
            <a:ext cx="33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En mi pueblo hay Correo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5"/>
          <p:cNvSpPr/>
          <p:nvPr/>
        </p:nvSpPr>
        <p:spPr>
          <a:xfrm>
            <a:off x="839520" y="5610240"/>
            <a:ext cx="3474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Times New Roman"/>
              </a:rPr>
              <a:t>En mi aldea hay una comisar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í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7"/>
          <p:cNvSpPr/>
          <p:nvPr/>
        </p:nvSpPr>
        <p:spPr>
          <a:xfrm>
            <a:off x="652320" y="3295800"/>
            <a:ext cx="55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¿In my town there is a post offic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8"/>
          <p:cNvSpPr/>
          <p:nvPr/>
        </p:nvSpPr>
        <p:spPr>
          <a:xfrm>
            <a:off x="857520" y="5591160"/>
            <a:ext cx="31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ála hubiera un esta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5518440" y="5591160"/>
            <a:ext cx="31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ála hubiera un esta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901440" y="4675320"/>
            <a:ext cx="3180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Times New Roman"/>
              </a:rPr>
              <a:t>Oj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ála hubera un estadi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5527800" y="4689360"/>
            <a:ext cx="28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á hubera un esta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652320" y="3295800"/>
            <a:ext cx="522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f only there was a stadiu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5549760" y="4635360"/>
            <a:ext cx="3111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883440" y="4676760"/>
            <a:ext cx="23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s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á a la campañ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5521320" y="5591160"/>
            <a:ext cx="341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 la campañ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5522040" y="467352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s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á en la campañ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4"/>
          <p:cNvSpPr/>
          <p:nvPr/>
        </p:nvSpPr>
        <p:spPr>
          <a:xfrm>
            <a:off x="851040" y="5504040"/>
            <a:ext cx="33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erca del 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5"/>
          <p:cNvSpPr/>
          <p:nvPr/>
        </p:nvSpPr>
        <p:spPr>
          <a:xfrm>
            <a:off x="652320" y="3295800"/>
            <a:ext cx="6504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¿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ómo se dice “It’s in the countryside” en españo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5549760" y="4635360"/>
            <a:ext cx="3111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862560" y="4649760"/>
            <a:ext cx="2759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Times New Roman"/>
              </a:rPr>
              <a:t>Mi barrio es antigu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5463720" y="5565600"/>
            <a:ext cx="2517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Mi barrio est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á fe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5553720" y="4633920"/>
            <a:ext cx="2298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Mi barrio es fe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893880" y="5504040"/>
            <a:ext cx="3381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Times New Roman"/>
              </a:rPr>
              <a:t>Mi barrio es bonit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652320" y="3295800"/>
            <a:ext cx="76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¿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ómo se dice “My neighbourhood is ugly” en españo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8"/>
          <p:cNvSpPr/>
          <p:nvPr/>
        </p:nvSpPr>
        <p:spPr>
          <a:xfrm>
            <a:off x="889560" y="4700520"/>
            <a:ext cx="286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Normalmente me lavo 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856440" y="5591160"/>
            <a:ext cx="351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ormalmente me acuest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5519880" y="4681440"/>
            <a:ext cx="33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ormalmente me duch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5518080" y="5583240"/>
            <a:ext cx="32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ormalmente me afeit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652320" y="3295800"/>
            <a:ext cx="57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¿Normally I go to bed at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8"/>
          <p:cNvSpPr/>
          <p:nvPr/>
        </p:nvSpPr>
        <p:spPr>
          <a:xfrm>
            <a:off x="806400" y="4740120"/>
            <a:ext cx="347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En mi ciudad hay una bibliote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5513040" y="4716360"/>
            <a:ext cx="32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En mi ciudad hay un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5346720" y="5576760"/>
            <a:ext cx="3505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En mi ciudad hay una librer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í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878400" y="5607000"/>
            <a:ext cx="337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En mi ciudad hay un castill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13">
            <a:hlinkClick r:id="" action="ppaction://hlinkshowjump?jump=firstslide"/>
          </p:cNvPr>
          <p:cNvSpPr/>
          <p:nvPr/>
        </p:nvSpPr>
        <p:spPr>
          <a:xfrm>
            <a:off x="7227720" y="6342120"/>
            <a:ext cx="1233720" cy="515880"/>
          </a:xfrm>
          <a:custGeom>
            <a:avLst/>
            <a:gdLst>
              <a:gd name="textAreaLeft" fmla="*/ 33120 w 1233720"/>
              <a:gd name="textAreaRight" fmla="*/ 1200600 w 1233720"/>
              <a:gd name="textAreaTop" fmla="*/ 33120 h 515880"/>
              <a:gd name="textAreaBottom" fmla="*/ 482760 h 515880"/>
            </a:gdLst>
            <a:ahLst/>
            <a:rect l="textAreaLeft" t="textAreaTop" r="textAreaRight" b="textAreaBottom"/>
            <a:pathLst>
              <a:path w="51635" h="21600">
                <a:moveTo>
                  <a:pt x="0" y="0"/>
                </a:moveTo>
                <a:lnTo>
                  <a:pt x="51635" y="0"/>
                </a:lnTo>
                <a:lnTo>
                  <a:pt x="51635" y="21600"/>
                </a:lnTo>
                <a:lnTo>
                  <a:pt x="0" y="21600"/>
                </a:lnTo>
                <a:close/>
              </a:path>
              <a:path fill="lightenLess" w="51635" h="21600">
                <a:moveTo>
                  <a:pt x="0" y="0"/>
                </a:moveTo>
                <a:lnTo>
                  <a:pt x="51635" y="0"/>
                </a:lnTo>
                <a:lnTo>
                  <a:pt x="50235" y="1400"/>
                </a:lnTo>
                <a:lnTo>
                  <a:pt x="1400" y="1400"/>
                </a:lnTo>
                <a:close/>
              </a:path>
              <a:path fill="darken" w="51635" h="21600">
                <a:moveTo>
                  <a:pt x="51635" y="0"/>
                </a:moveTo>
                <a:lnTo>
                  <a:pt x="51635" y="21600"/>
                </a:lnTo>
                <a:lnTo>
                  <a:pt x="50235" y="20200"/>
                </a:lnTo>
                <a:lnTo>
                  <a:pt x="50235" y="1400"/>
                </a:lnTo>
                <a:close/>
              </a:path>
              <a:path fill="darkenLess" w="51635" h="21600">
                <a:moveTo>
                  <a:pt x="51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5" y="20200"/>
                </a:lnTo>
                <a:close/>
              </a:path>
              <a:path fill="lighten" w="51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635" h="21600">
                <a:moveTo>
                  <a:pt x="18811" y="10800"/>
                </a:moveTo>
                <a:lnTo>
                  <a:pt x="32824" y="3794"/>
                </a:lnTo>
                <a:lnTo>
                  <a:pt x="3282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695160" y="3179880"/>
            <a:ext cx="730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 my city there is a booksho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5T22:08:00Z</dcterms:created>
  <dc:creator>Roger Beck</dc:creator>
  <dc:description/>
  <dc:language>en-US</dc:language>
  <cp:lastModifiedBy>Chris</cp:lastModifiedBy>
  <dcterms:modified xsi:type="dcterms:W3CDTF">2009-01-10T09:53:59Z</dcterms:modified>
  <cp:revision>90</cp:revision>
  <dc:subject/>
  <dc:title>No Slide Title</dc:title>
</cp:coreProperties>
</file>